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272-C82E-4739-AA16-A847A025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61E-FCCC-4CFB-925C-93ECF0D9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EF6-27D1-4ACC-8B2C-C95447C3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945-EDBC-4384-9CDB-8DDE191A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5D6-FB43-4EE8-8D6B-1363543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04C-9A09-468A-BE78-8F0D9FD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8F9-EF0B-4E93-A547-8DC03EA4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C67-5FA8-4416-85C5-E0D69AC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E50-E715-4DE9-B54F-3B15CC7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55B-17E9-49B0-8EFD-8166670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69D-7FC5-4C6B-AB11-511C440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57F-16FA-4F7F-829B-74E82FEC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3D0-B62F-4D2D-9681-FA1339CD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the Creek meet their basic needs? (food, water, shel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bartering/trading help European colonists get the goods and services they wanted/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bartering/trading help the Creek and Cherokee get the goods and services they wanted/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reek and Cherokee protect their lan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id Georgia’s first people have to do so that everyone would have enough of their basic nee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kinds of choices did people have to make in order to surv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Creek adapt to changes in their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life for the Creek and Cherokee change when the settlers arrived in what is now Georgi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ere the lives of the Creek and Cherokee in Oglethorpe’s time different from our lives toda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 what ways are the lives of the Creek and Cherokee of Oglethorpe’s time the same as the lives of modern Georgian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your life the same as Sequoyah’s lif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 was Sequoya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kinds of things are different in your life than what Sequoyah might have experienc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 was James Oglethorpe?  Tomochichi? Mary Musgrov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Oglethorpe demonstrate honesty and compassion with colonists and the Creek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cooperation between colonists and the Creek help Savannah become a successful settlement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Georgia become such a successful colo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 honesty, compassion, trustworthiness, and dependability mean?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honesty, compassion, trustworthiness, and dependability important character trait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show these positive traits (honesty, compassion, trustworthiness, dependability) in you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mes Oglethorpe, Mary Musgrove, and Tomochichi influence Georgia’s past and present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as England’s climate different from Georgia’s? How did these differences affect the colonis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Sequoyah influence the Cherokee way of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id James Oglethorpe move to Georg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changes did Oglethorpe and the colonists have to make in order to adapt to Georgia’s land and climat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ere the cultures of the colonists different from Creek culture? How were they alik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was it a good idea for Oglethorpe to create a settlement at Yamacraw Bluff (which is now the city of Savannah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Georgia’s colonists get the things they wanted and needed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 what ways did the barter system help both Georgia’s colonists and the Creek and Cheroke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kills did Tomochichi, James Oglethorpe, and Mary Musgrove have that helped make bartering and trading possible between the colonists and the Creek and Cherok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kills did Tomochichi, James Oglethorpe, and Mary Musgrove have that helped make bartering and trading possible between the colonists and the Creek and Cherok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Oglethorpe and Tomochichi’s friendship help make Georgia a successful colon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life in Georgia today different than it was during the time Oglethorpe was ali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n Georgia did the Cherokee li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mes Oglethorpe, Mary Musgrove, and Tomochichi’s cooperation have an effect on our present day state of Georgi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liberty? What does liberty mean to you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is it important for all American citizens to have the same rights and freedoms?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sportsmanship?    What is civility?  How do you show sportsmanship and civility in your own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ckie Robinson’s decision to demonstrate sportsmanship and civility affect today’s American s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Dr. King’s work for civil rights affect the way we live today?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things people like Dr. King did to help all Americans have the same rights and freedoms?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was it important for people like Dr. King to fight for civil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liberty? What does liberty mean to you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n Georgia did the Creek 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Creek depend on nature to meet their basic need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Sequoyah’s accomplishments affect the entire Cherokee Natio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reek and Cherokee get resources that were not available in the region(s) where they live(d)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ways in which goods and services are given out? (ex. force, sharing, first come-first serv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23:51Z</dcterms:created>
  <dc:creator>Abby Owens</dc:creator>
  <dc:description/>
  <dc:language>en-US</dc:language>
  <cp:lastModifiedBy>Abby Owens</cp:lastModifiedBy>
  <dcterms:modified xsi:type="dcterms:W3CDTF">2010-05-28T00:40:41Z</dcterms:modified>
  <cp:revision>40</cp:revision>
  <dc:subject/>
  <dc:title>PowerPoint Presentation</dc:title>
</cp:coreProperties>
</file>